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871-9584-4D54-91B7-D3254BEF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539-625C-46F0-9902-02C1CF07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9F9-2686-41DA-A026-9D5647F1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EEFD-C037-4314-B177-953E5B8D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2736-2B4D-4267-A4A3-920D21D7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4125-814B-4B45-89D6-8FE5796D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5639-6DFE-4009-84D3-ADAF6F27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54E4-D3AC-43EC-AE66-C22F22D4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772B-33E1-4D5F-82A0-6575FA17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4E6E-C81C-4219-AA11-91CB93BB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2A83-9530-4831-842A-EC456BDE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769-A946-4D4B-8AD5-3ED0247A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1269-540B-452A-9CD9-F2CF28C9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9F78-75D3-470A-8D52-554AE94C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946B-0CA0-4EDD-ADD4-C1E15D54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66D4-F429-4339-A299-4B7D6A00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AC6B-A613-4543-9547-32DEA43F2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6C8-EDFC-44DD-A07B-2311DBAB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AA34-07BA-4EBA-BF96-69D779E4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6FAE-1C94-4F70-ADB2-D4A0BB40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B9E-B783-4D00-9309-73A7DACB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09DD-90A1-4DBC-96BD-EC995B17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8F7E-652E-4F81-8BF4-2ACEF363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D85D-DA6B-49E8-8B66-1673EDFC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5480" y="6477120"/>
            <a:ext cx="32767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2000 by Monica Yuskait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CBFE-3611-44D2-9E56-79041879A2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3F81-B75A-432B-B16C-32F2EB598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.wmf"/><Relationship Id="rId2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cgl.microsoft.com/" TargetMode="External"/><Relationship Id="rId2" Type="http://schemas.openxmlformats.org/officeDocument/2006/relationships/hyperlink" Target="http://cgl.microsoft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Percent I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86200" y="22096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382920" cy="338292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609480" y="3200400"/>
            <a:ext cx="3505320" cy="3429000"/>
            <a:chOff x="609480" y="3200400"/>
            <a:chExt cx="3505320" cy="342900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2666880" y="5181480"/>
              <a:ext cx="14479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>
              <a:off x="2666880" y="3276720"/>
              <a:ext cx="144792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4"/>
            <a:stretch/>
          </p:blipFill>
          <p:spPr>
            <a:xfrm>
              <a:off x="609480" y="5181480"/>
              <a:ext cx="144792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5"/>
            <a:stretch/>
          </p:blipFill>
          <p:spPr>
            <a:xfrm>
              <a:off x="609480" y="3200400"/>
              <a:ext cx="1447920" cy="144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$ .25 is ¼ of a doll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5% also means ¼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5560" y="3886200"/>
            <a:ext cx="81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3276720"/>
            <a:ext cx="1524240" cy="99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.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4114800"/>
            <a:ext cx="3048120" cy="2590920"/>
            <a:chOff x="228600" y="4114800"/>
            <a:chExt cx="3048120" cy="2590920"/>
          </a:xfrm>
        </p:grpSpPr>
        <p:sp>
          <p:nvSpPr>
            <p:cNvPr id="169" name=""/>
            <p:cNvSpPr/>
            <p:nvPr/>
          </p:nvSpPr>
          <p:spPr>
            <a:xfrm>
              <a:off x="228600" y="4114800"/>
              <a:ext cx="838080" cy="8384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4920" y="5867640"/>
              <a:ext cx="838080" cy="8380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38280" y="4114800"/>
              <a:ext cx="838440" cy="8384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5867640"/>
              <a:ext cx="838080" cy="8380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5% means 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-18864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5% of 8 lemons is 2 lem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50320" y="3581280"/>
            <a:ext cx="86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3657600"/>
            <a:ext cx="314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5% of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886200" y="3048120"/>
            <a:ext cx="2173320" cy="2935080"/>
            <a:chOff x="3886200" y="3048120"/>
            <a:chExt cx="2173320" cy="2935080"/>
          </a:xfrm>
        </p:grpSpPr>
        <p:graphicFrame>
          <p:nvGraphicFramePr>
            <p:cNvPr id="178" name=""/>
            <p:cNvGraphicFramePr/>
            <p:nvPr/>
          </p:nvGraphicFramePr>
          <p:xfrm>
            <a:off x="3886200" y="3048120"/>
            <a:ext cx="954000" cy="64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048120"/>
                      <a:ext cx="95400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0" name=""/>
            <p:cNvGraphicFramePr/>
            <p:nvPr/>
          </p:nvGraphicFramePr>
          <p:xfrm>
            <a:off x="3886200" y="3809880"/>
            <a:ext cx="954000" cy="6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809880"/>
                      <a:ext cx="954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2" name=""/>
            <p:cNvGraphicFramePr/>
            <p:nvPr/>
          </p:nvGraphicFramePr>
          <p:xfrm>
            <a:off x="3886200" y="4572000"/>
            <a:ext cx="954000" cy="649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86200" y="4572000"/>
                      <a:ext cx="954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4" name=""/>
            <p:cNvGraphicFramePr/>
            <p:nvPr/>
          </p:nvGraphicFramePr>
          <p:xfrm>
            <a:off x="3886200" y="5334120"/>
            <a:ext cx="954000" cy="649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86200" y="5334120"/>
                      <a:ext cx="95400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6" name=""/>
            <p:cNvGraphicFramePr/>
            <p:nvPr/>
          </p:nvGraphicFramePr>
          <p:xfrm>
            <a:off x="5105520" y="3048120"/>
            <a:ext cx="954000" cy="6490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105520" y="3048120"/>
                      <a:ext cx="95400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8" name=""/>
            <p:cNvGraphicFramePr/>
            <p:nvPr/>
          </p:nvGraphicFramePr>
          <p:xfrm>
            <a:off x="5105520" y="3809880"/>
            <a:ext cx="954000" cy="649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105520" y="3809880"/>
                      <a:ext cx="954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0" name=""/>
            <p:cNvGraphicFramePr/>
            <p:nvPr/>
          </p:nvGraphicFramePr>
          <p:xfrm>
            <a:off x="5105520" y="4572000"/>
            <a:ext cx="954000" cy="6494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105520" y="4572000"/>
                      <a:ext cx="95400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"/>
            <p:cNvGraphicFramePr/>
            <p:nvPr/>
          </p:nvGraphicFramePr>
          <p:xfrm>
            <a:off x="5105520" y="5334120"/>
            <a:ext cx="954000" cy="6490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105520" y="5334120"/>
                      <a:ext cx="95400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4" name=""/>
          <p:cNvGrpSpPr/>
          <p:nvPr/>
        </p:nvGrpSpPr>
        <p:grpSpPr>
          <a:xfrm>
            <a:off x="7238880" y="3733920"/>
            <a:ext cx="954360" cy="1411200"/>
            <a:chOff x="7238880" y="3733920"/>
            <a:chExt cx="954360" cy="1411200"/>
          </a:xfrm>
        </p:grpSpPr>
        <p:graphicFrame>
          <p:nvGraphicFramePr>
            <p:cNvPr id="195" name=""/>
            <p:cNvGraphicFramePr/>
            <p:nvPr/>
          </p:nvGraphicFramePr>
          <p:xfrm>
            <a:off x="7238880" y="3733920"/>
            <a:ext cx="954360" cy="6490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238880" y="3733920"/>
                      <a:ext cx="954360" cy="64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7" name=""/>
            <p:cNvGraphicFramePr/>
            <p:nvPr/>
          </p:nvGraphicFramePr>
          <p:xfrm>
            <a:off x="7238880" y="4495680"/>
            <a:ext cx="954360" cy="649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238880" y="4495680"/>
                      <a:ext cx="954360" cy="6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3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3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3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3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25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724280" y="2971800"/>
            <a:ext cx="1981440" cy="2476440"/>
            <a:chOff x="4724280" y="2971800"/>
            <a:chExt cx="1981440" cy="2476440"/>
          </a:xfrm>
        </p:grpSpPr>
        <p:sp>
          <p:nvSpPr>
            <p:cNvPr id="203" name=""/>
            <p:cNvSpPr/>
            <p:nvPr/>
          </p:nvSpPr>
          <p:spPr>
            <a:xfrm>
              <a:off x="4724280" y="2971800"/>
              <a:ext cx="1981440" cy="2476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05520" y="4191120"/>
              <a:ext cx="121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934320" y="2971800"/>
            <a:ext cx="1981080" cy="3088800"/>
            <a:chOff x="6934320" y="2971800"/>
            <a:chExt cx="1981080" cy="3088800"/>
          </a:xfrm>
        </p:grpSpPr>
        <p:sp>
          <p:nvSpPr>
            <p:cNvPr id="206" name=""/>
            <p:cNvSpPr/>
            <p:nvPr/>
          </p:nvSpPr>
          <p:spPr>
            <a:xfrm>
              <a:off x="6934320" y="2971800"/>
              <a:ext cx="1981080" cy="2438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45600" y="3352680"/>
              <a:ext cx="599760" cy="27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391520" y="419112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057400" y="3809880"/>
            <a:ext cx="76212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3733920"/>
            <a:ext cx="76176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3733920"/>
            <a:ext cx="76212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90920" y="220968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cim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2209680"/>
            <a:ext cx="187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1828800"/>
            <a:ext cx="24382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if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209680"/>
            <a:ext cx="170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rc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600200" y="2362320"/>
            <a:ext cx="3048120" cy="533160"/>
          </a:xfrm>
          <a:prstGeom prst="rect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1371600"/>
            <a:ext cx="6095880" cy="990720"/>
          </a:xfrm>
          <a:prstGeom prst="rect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25 % Mean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6094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5 parts out of 100 or 25 hundredth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00200" y="1371600"/>
          <a:ext cx="6095880" cy="51753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3733920" cy="373392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304920" y="2743200"/>
            <a:ext cx="3348000" cy="3819600"/>
            <a:chOff x="304920" y="2743200"/>
            <a:chExt cx="3348000" cy="3819600"/>
          </a:xfrm>
        </p:grpSpPr>
        <p:grpSp>
          <p:nvGrpSpPr>
            <p:cNvPr id="223" name=""/>
            <p:cNvGrpSpPr/>
            <p:nvPr/>
          </p:nvGrpSpPr>
          <p:grpSpPr>
            <a:xfrm>
              <a:off x="304920" y="2743200"/>
              <a:ext cx="833400" cy="3819600"/>
              <a:chOff x="304920" y="2743200"/>
              <a:chExt cx="833400" cy="3819600"/>
            </a:xfrm>
          </p:grpSpPr>
          <p:pic>
            <p:nvPicPr>
              <p:cNvPr id="22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2743200"/>
                <a:ext cx="833400" cy="84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920" y="3733920"/>
                <a:ext cx="83340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4920" y="4724280"/>
                <a:ext cx="833400" cy="84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04920" y="5715000"/>
                <a:ext cx="833400" cy="84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8" name=""/>
            <p:cNvGrpSpPr/>
            <p:nvPr/>
          </p:nvGrpSpPr>
          <p:grpSpPr>
            <a:xfrm>
              <a:off x="1600200" y="2743200"/>
              <a:ext cx="833400" cy="1838160"/>
              <a:chOff x="1600200" y="2743200"/>
              <a:chExt cx="833400" cy="1838160"/>
            </a:xfrm>
          </p:grpSpPr>
          <p:pic>
            <p:nvPicPr>
              <p:cNvPr id="22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600200" y="2743200"/>
                <a:ext cx="833400" cy="84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600200" y="3733920"/>
                <a:ext cx="833400" cy="847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1" name="" descr=""/>
            <p:cNvPicPr/>
            <p:nvPr/>
          </p:nvPicPr>
          <p:blipFill>
            <a:blip r:embed="rId8"/>
            <a:stretch/>
          </p:blipFill>
          <p:spPr>
            <a:xfrm>
              <a:off x="1600200" y="4724280"/>
              <a:ext cx="83340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9"/>
            <a:stretch/>
          </p:blipFill>
          <p:spPr>
            <a:xfrm>
              <a:off x="1600200" y="5715000"/>
              <a:ext cx="833400" cy="847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" name=""/>
            <p:cNvGrpSpPr/>
            <p:nvPr/>
          </p:nvGrpSpPr>
          <p:grpSpPr>
            <a:xfrm>
              <a:off x="2819520" y="2819520"/>
              <a:ext cx="833400" cy="1838160"/>
              <a:chOff x="2819520" y="2819520"/>
              <a:chExt cx="833400" cy="1838160"/>
            </a:xfrm>
          </p:grpSpPr>
          <p:pic>
            <p:nvPicPr>
              <p:cNvPr id="23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19520" y="2819520"/>
                <a:ext cx="833400" cy="84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819520" y="3810240"/>
                <a:ext cx="833400" cy="847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$ .10 is 1/10 of a doll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0% also means 1/10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3505320"/>
            <a:ext cx="75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971800"/>
            <a:ext cx="1523880" cy="9907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.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914400" y="2819520"/>
            <a:ext cx="3124080" cy="3657600"/>
            <a:chOff x="914400" y="2819520"/>
            <a:chExt cx="3124080" cy="3657600"/>
          </a:xfrm>
        </p:grpSpPr>
        <p:sp>
          <p:nvSpPr>
            <p:cNvPr id="241" name=""/>
            <p:cNvSpPr/>
            <p:nvPr/>
          </p:nvSpPr>
          <p:spPr>
            <a:xfrm>
              <a:off x="914400" y="281952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14400" y="380988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90720" y="4724280"/>
              <a:ext cx="53316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66680" y="579132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9680" y="281952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09680" y="380988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9680" y="480060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09680" y="5791320"/>
              <a:ext cx="53352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05320" y="2819520"/>
              <a:ext cx="533160" cy="6858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05320" y="3809880"/>
              <a:ext cx="533160" cy="7621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¢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3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3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3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3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% means 1/1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0% of 10 ice creams is 1 ice crea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9960" y="3200400"/>
            <a:ext cx="75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33526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10% of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200400" y="2895480"/>
            <a:ext cx="2624040" cy="2108160"/>
            <a:chOff x="3200400" y="2895480"/>
            <a:chExt cx="2624040" cy="2108160"/>
          </a:xfrm>
        </p:grpSpPr>
        <p:graphicFrame>
          <p:nvGraphicFramePr>
            <p:cNvPr id="256" name=""/>
            <p:cNvGraphicFramePr/>
            <p:nvPr/>
          </p:nvGraphicFramePr>
          <p:xfrm>
            <a:off x="3200400" y="2895480"/>
            <a:ext cx="490680" cy="889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00400" y="2895480"/>
                      <a:ext cx="490680" cy="8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8" name=""/>
            <p:cNvGraphicFramePr/>
            <p:nvPr/>
          </p:nvGraphicFramePr>
          <p:xfrm>
            <a:off x="3733920" y="2895480"/>
            <a:ext cx="490320" cy="889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2895480"/>
                      <a:ext cx="490320" cy="8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0" name=""/>
            <p:cNvGraphicFramePr/>
            <p:nvPr/>
          </p:nvGraphicFramePr>
          <p:xfrm>
            <a:off x="4267080" y="2895480"/>
            <a:ext cx="490680" cy="889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267080" y="2895480"/>
                      <a:ext cx="490680" cy="8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4800600" y="2895480"/>
            <a:ext cx="490680" cy="88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00600" y="2895480"/>
                      <a:ext cx="490680" cy="8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4" name=""/>
            <p:cNvGraphicFramePr/>
            <p:nvPr/>
          </p:nvGraphicFramePr>
          <p:xfrm>
            <a:off x="5334120" y="2895480"/>
            <a:ext cx="490320" cy="889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34120" y="2895480"/>
                      <a:ext cx="490320" cy="88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6" name=""/>
            <p:cNvGraphicFramePr/>
            <p:nvPr/>
          </p:nvGraphicFramePr>
          <p:xfrm>
            <a:off x="3200400" y="4114800"/>
            <a:ext cx="490680" cy="888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00400" y="4114800"/>
                      <a:ext cx="490680" cy="8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8" name=""/>
            <p:cNvGraphicFramePr/>
            <p:nvPr/>
          </p:nvGraphicFramePr>
          <p:xfrm>
            <a:off x="3733920" y="4114800"/>
            <a:ext cx="490320" cy="888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69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733920" y="4114800"/>
                      <a:ext cx="490320" cy="8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0" name=""/>
            <p:cNvGraphicFramePr/>
            <p:nvPr/>
          </p:nvGraphicFramePr>
          <p:xfrm>
            <a:off x="4267080" y="4114800"/>
            <a:ext cx="490680" cy="888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267080" y="4114800"/>
                      <a:ext cx="490680" cy="8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2" name=""/>
            <p:cNvGraphicFramePr/>
            <p:nvPr/>
          </p:nvGraphicFramePr>
          <p:xfrm>
            <a:off x="4800600" y="4114800"/>
            <a:ext cx="490680" cy="888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3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800600" y="4114800"/>
                      <a:ext cx="490680" cy="8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4" name=""/>
            <p:cNvGraphicFramePr/>
            <p:nvPr/>
          </p:nvGraphicFramePr>
          <p:xfrm>
            <a:off x="5334120" y="4114800"/>
            <a:ext cx="490320" cy="888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334120" y="4114800"/>
                      <a:ext cx="490320" cy="88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6" name=""/>
          <p:cNvGraphicFramePr/>
          <p:nvPr/>
        </p:nvGraphicFramePr>
        <p:xfrm>
          <a:off x="7467480" y="3352680"/>
          <a:ext cx="490680" cy="889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467480" y="3352680"/>
                    <a:ext cx="49068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10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724280" y="2971800"/>
            <a:ext cx="1981440" cy="2476440"/>
            <a:chOff x="4724280" y="2971800"/>
            <a:chExt cx="1981440" cy="2476440"/>
          </a:xfrm>
        </p:grpSpPr>
        <p:sp>
          <p:nvSpPr>
            <p:cNvPr id="282" name=""/>
            <p:cNvSpPr/>
            <p:nvPr/>
          </p:nvSpPr>
          <p:spPr>
            <a:xfrm>
              <a:off x="4724280" y="2971800"/>
              <a:ext cx="1981440" cy="2476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05520" y="4191120"/>
              <a:ext cx="121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934320" y="2971800"/>
            <a:ext cx="1981080" cy="3088800"/>
            <a:chOff x="6934320" y="2971800"/>
            <a:chExt cx="1981080" cy="3088800"/>
          </a:xfrm>
        </p:grpSpPr>
        <p:sp>
          <p:nvSpPr>
            <p:cNvPr id="285" name=""/>
            <p:cNvSpPr/>
            <p:nvPr/>
          </p:nvSpPr>
          <p:spPr>
            <a:xfrm>
              <a:off x="6934320" y="2971800"/>
              <a:ext cx="1981080" cy="2438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93320" y="3352680"/>
              <a:ext cx="1018800" cy="27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67480" y="419112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057400" y="3809880"/>
            <a:ext cx="76212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3733920"/>
            <a:ext cx="76176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00800" y="3733920"/>
            <a:ext cx="76212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220968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cim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25720" y="2209680"/>
            <a:ext cx="187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1828800"/>
            <a:ext cx="24382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if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2209680"/>
            <a:ext cx="170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rc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523880" y="1371600"/>
            <a:ext cx="6096240" cy="533520"/>
          </a:xfrm>
          <a:prstGeom prst="rect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10 % Mean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0 parts out of 100 or 10 hundredth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523880" y="1371600"/>
          <a:ext cx="6096240" cy="51750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80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llustrations from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el Gallery by Corel Cor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oderbund ClipArt T/Maker C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part from “Microsoft Clip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allery” located on the Interne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 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40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cgl.microsoft.com/</a:t>
            </a: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clipgallerylive/default.asp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Definition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cent can be defined as “o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ne hundred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3886200"/>
            <a:ext cx="4114800" cy="1600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100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3200400"/>
            <a:ext cx="106704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Definition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nt” comes from the Lat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means 100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43000" y="3048120"/>
          <a:ext cx="1933560" cy="31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8120"/>
                    <a:ext cx="193356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352680" y="2514600"/>
            <a:ext cx="5105520" cy="2971800"/>
          </a:xfrm>
          <a:prstGeom prst="wedgeRoundRectCallout">
            <a:avLst>
              <a:gd name="adj1" fmla="val -64800"/>
              <a:gd name="adj2" fmla="val 12555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2590920"/>
            <a:ext cx="480060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words have come from the root cent such as century, centimeter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ntipede, &amp; cen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Definition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letter C in Roman Numer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nds for 100 or “cent”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90720" y="3352680"/>
          <a:ext cx="2009520" cy="30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52680"/>
                    <a:ext cx="200952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809880" y="3581280"/>
            <a:ext cx="4343400" cy="1295640"/>
          </a:xfrm>
          <a:prstGeom prst="wedgeRoundRectCallout">
            <a:avLst>
              <a:gd name="adj1" fmla="val -79166"/>
              <a:gd name="adj2" fmla="val 31495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3581280"/>
            <a:ext cx="42336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C means thre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ndre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Percent and Money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write our change from 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ollar in hundredth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3276720"/>
            <a:ext cx="4190760" cy="2209680"/>
          </a:xfrm>
          <a:prstGeom prst="wedgeRoundRectCallout">
            <a:avLst>
              <a:gd name="adj1" fmla="val -71402"/>
              <a:gd name="adj2" fmla="val -6467"/>
              <a:gd name="adj3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3352680"/>
            <a:ext cx="42339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underst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ey, learning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cents is a breez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23288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30481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1143000" y="2895480"/>
            <a:ext cx="1600200" cy="3505320"/>
            <a:chOff x="1143000" y="2895480"/>
            <a:chExt cx="1600200" cy="350532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1143000" y="4800600"/>
              <a:ext cx="1600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3"/>
            <a:stretch/>
          </p:blipFill>
          <p:spPr>
            <a:xfrm>
              <a:off x="1143000" y="2895480"/>
              <a:ext cx="16002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$ .50 is ½ of a doll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0% also means 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5486400"/>
            <a:ext cx="83808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3733920"/>
            <a:ext cx="83808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5880" y="3809880"/>
            <a:ext cx="86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3276720"/>
            <a:ext cx="1523880" cy="99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.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% means 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-188640">
              <a:lnSpc>
                <a:spcPct val="8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% of 6 stars is 3 sta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8864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21720" y="3733920"/>
            <a:ext cx="86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191120" y="3200400"/>
            <a:ext cx="1676160" cy="2666880"/>
            <a:chOff x="4191120" y="3200400"/>
            <a:chExt cx="1676160" cy="2666880"/>
          </a:xfrm>
        </p:grpSpPr>
        <p:sp>
          <p:nvSpPr>
            <p:cNvPr id="126" name=""/>
            <p:cNvSpPr/>
            <p:nvPr/>
          </p:nvSpPr>
          <p:spPr>
            <a:xfrm>
              <a:off x="4191120" y="320040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91120" y="419112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3200400"/>
              <a:ext cx="60984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4191120"/>
              <a:ext cx="60984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57800" y="5181480"/>
              <a:ext cx="609480" cy="60984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91120" y="525780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3200400"/>
            <a:ext cx="609480" cy="2666880"/>
            <a:chOff x="7086600" y="3200400"/>
            <a:chExt cx="609480" cy="2666880"/>
          </a:xfrm>
        </p:grpSpPr>
        <p:sp>
          <p:nvSpPr>
            <p:cNvPr id="133" name=""/>
            <p:cNvSpPr/>
            <p:nvPr/>
          </p:nvSpPr>
          <p:spPr>
            <a:xfrm>
              <a:off x="7086600" y="320040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6600" y="419112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6600" y="5257800"/>
              <a:ext cx="609480" cy="60948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62120" y="3657600"/>
            <a:ext cx="314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50% of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Comparing Money &amp; Percent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2971800"/>
            <a:ext cx="1981080" cy="2438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50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724280" y="2971800"/>
            <a:ext cx="1981440" cy="2476440"/>
            <a:chOff x="4724280" y="2971800"/>
            <a:chExt cx="1981440" cy="2476440"/>
          </a:xfrm>
        </p:grpSpPr>
        <p:sp>
          <p:nvSpPr>
            <p:cNvPr id="141" name=""/>
            <p:cNvSpPr/>
            <p:nvPr/>
          </p:nvSpPr>
          <p:spPr>
            <a:xfrm>
              <a:off x="4724280" y="2971800"/>
              <a:ext cx="1981440" cy="2476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5520" y="4191120"/>
              <a:ext cx="1218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934320" y="2971800"/>
            <a:ext cx="1981080" cy="3088800"/>
            <a:chOff x="6934320" y="2971800"/>
            <a:chExt cx="1981080" cy="3088800"/>
          </a:xfrm>
        </p:grpSpPr>
        <p:sp>
          <p:nvSpPr>
            <p:cNvPr id="144" name=""/>
            <p:cNvSpPr/>
            <p:nvPr/>
          </p:nvSpPr>
          <p:spPr>
            <a:xfrm>
              <a:off x="6934320" y="2971800"/>
              <a:ext cx="1981080" cy="2438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5600" y="3352680"/>
              <a:ext cx="599760" cy="27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1520" y="419112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057400" y="3809880"/>
            <a:ext cx="762120" cy="762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3733920"/>
            <a:ext cx="76176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3733920"/>
            <a:ext cx="762120" cy="761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2209680"/>
            <a:ext cx="190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cim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25720" y="2209680"/>
            <a:ext cx="187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5720" y="1828800"/>
            <a:ext cx="24382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ifi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209680"/>
            <a:ext cx="170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rc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3880" y="1295280"/>
            <a:ext cx="6096240" cy="2590920"/>
          </a:xfrm>
          <a:prstGeom prst="rect">
            <a:avLst/>
          </a:prstGeom>
          <a:solidFill>
            <a:srgbClr val="99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50 % Mean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50 parts out of 100 or 50 hundredth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3880" y="1320840"/>
          <a:ext cx="6096240" cy="51750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7T13:39:32Z</dcterms:created>
  <dc:creator>Monica/Bob Yuskaitis</dc:creator>
  <dc:description/>
  <dc:language>en-US</dc:language>
  <cp:lastModifiedBy>admin</cp:lastModifiedBy>
  <dcterms:modified xsi:type="dcterms:W3CDTF">2007-12-11T00:18:58Z</dcterms:modified>
  <cp:revision>28</cp:revision>
  <dc:subject/>
  <dc:title>Percent</dc:title>
</cp:coreProperties>
</file>